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AE5DC-4792-4269-9348-AED7F7377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C9FAE-1E33-4B70-837C-6206042B5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571A51-2384-4E9F-B8E2-949D4C9D5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16F8ED-97E1-4509-8904-16A3A2EFB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B9DB38-7A84-4EBC-8373-6AF01728D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03F7CD-D115-4E5D-81CE-F7BBF9FF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E1F077-A865-44D4-9FB1-2B6CFB72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061B33-AE79-434F-A140-3FC601F3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859B71-F9FC-4B75-845E-FC0B9D49E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4F3C7A-C8A9-44B4-BF0C-2C09A3CEA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EDC9C6-3387-4EEF-B176-8598AA606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BBBDC-801B-4C30-94FD-0FCE8B895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E0544-EF64-4C4D-8F1F-D5CBE7DF9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9C681-C828-4FE6-A80F-F8A77F427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96546-9D91-4516-A7E4-25AE474CD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02C1E-8314-4DF8-89E9-B6B509919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91E47-208C-40BE-A0BC-6E934CAA0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3E2F8-A55A-4401-AFFC-44F29C3F6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E20B4-CE35-4F90-BF7F-C3773F002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A3B03-815E-4B28-9CBC-890C6550E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87FD6-8FCE-4573-9C7B-9A153B69A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EF80B-BC02-43EE-8062-6833AD91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F4314-0278-412F-8AC6-388792F7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24B16-3864-4696-92FF-894514B6A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F65B6-FEBD-4957-934B-35CD2938F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C2AE5-4236-447F-8442-254098BBA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A3CA96-C76C-4053-B041-840E83CF8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2F5E77-AE25-4826-BF1C-DD8B55359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D981D9-5364-4671-9A02-58753315A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786571-33AA-45C8-97A4-6BC06D80A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935BA6-7BB1-468D-AF1D-C51E1E31A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F3122-27AE-46D3-A853-97D05F0E5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B7DF7E-1741-4731-A2F6-59724EC73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5BBDE5-B4C1-46D7-9BBC-6FDA1A2A4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16EB4D-EE0E-43BF-BD93-E74F084D7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A55C85-7965-423B-A014-4D0D20942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BBC087-375C-4BB8-876B-E9E898D58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8CF021-442A-4368-8D06-B832842DE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3F4A4F-0940-4446-8AAB-D3C0998C1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D9A12-263D-4076-BFA0-CBBCEBEEC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1DDD2-9486-45A3-B9E0-0151A4C30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573C6-1283-4E34-8C65-8565FE9AD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B4EFE-37FE-40E5-8FF6-156E6F173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AB32D-4858-4CDF-87DF-8936FC19C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3CE50-3C3F-4294-B1DA-109F48BF9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7EA03-E968-4B83-9D2C-1710390BE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A7E70-21D3-4E7A-B281-C5CA635C2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9FAED-513B-4B01-9AD6-0D2D3B615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9AB63-4B7B-4A70-8FA9-DBE62716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0A9A9-91B7-489B-9D91-E1BDBD798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171CA-DB54-44C4-A347-E9816DFF3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9358A-379C-4B01-AD87-21C09345C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6DC82-26D7-4CAE-B6BB-B850FE3AC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6D6DF-0A25-4B04-B418-F506E0538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3DFF63-71A0-46A1-8966-C5D7DE1B7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E99E6-8DFD-4DD5-85E5-5A59C0DCD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F05A98-F5A8-4845-AD37-D75ED94F6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C744A-5A3A-47B9-A645-E1C778470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B2696-D276-4DC1-A798-D05EA618E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2B6C94-5227-4AE5-91A1-DD312F7F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E5533-72AE-4F37-87EC-3728CA01B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D6F9B-99A5-4011-A8BA-DDB9FE3AD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83399-491C-45B7-8AA3-90227C8C4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B34CA-620C-40B9-97A0-065346B5E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D8E4B-4F72-4F54-B560-A38B9269C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5E5758-00E5-4DB8-9395-B3E82FB2B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69F05A-54E1-4AAC-96C1-361F53D1B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B00B3C-2253-4DC2-8F27-E1D668B42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01E406-E75A-42A7-BD4D-8C5E3A77F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7A581A-25FC-488C-B0B8-9219BD283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BEE2DD-9233-41CE-9207-352D9051B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7F623F-1785-4734-92DF-FD4C48AE9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BE600A-3961-4C7E-95A3-665F7363D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0C1502-7C6B-44F5-82C1-81634BE16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DE523F-2FF2-47B1-A8AD-100AF748D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590C5-E324-42F1-A0E0-5CFE3CA5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98EAC2-51C0-405C-AABA-036F158BA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C19114-1EC1-4A53-AA86-F9DD641D9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A2E0E1-545E-4508-B13A-D6616992D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ABF6DB-B068-4269-BD83-BEA63D5A2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A9F0A6-0FDD-4767-98BC-6E27599E7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5E6EFB-E1ED-47F2-8806-E5A014B91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53E4C0-E96F-4C9A-B639-FFCD9B105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AB52A0-C024-4979-B225-0D06FCA3F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D6BEB6-D2DF-4868-9B56-648D7A568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CB68A5-4DF5-4436-9677-4B1892B03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3342B-C287-4DF8-977D-BED4B5C3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A683A9-849C-4130-AF15-14AE89DDC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A1C15D-F4CC-4996-90FA-6FC0AB98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EA02D6-C25C-465A-9621-44DD22839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C73B58-3292-4F80-97AC-F44C250C6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6F13B8-6EB9-4B0E-9318-573D5D7BF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0DA9BC-E5D2-4BA1-B4F7-E00D8AE98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CE7FEE-8525-4D78-B14C-1360BDEDC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6BA379-DFCA-4097-AD13-F06941B97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E0AC49-88AD-4EB1-9AC1-36C0FF806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14124D-D6B0-4BBB-B6D7-C8FEA36D3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DB86A-7315-41FB-B7A5-CE957032B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2EFDA1-D63C-4E95-9050-ACDF6FF42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825D03-464C-4BB4-8F0F-E031655F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E84560-D009-43A5-A9E0-05FCBA1F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A9C18C-22EF-403F-ABA6-F23231B13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C20E0A-17D9-4275-B29E-E56851C7F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B03399-1E63-4078-98B6-13136794C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2659F4-148B-40D5-AE20-D3F692312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B68E61-3722-4CEC-AADF-27C47C9AE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0B8DDE-3027-43C5-93BA-5F29D2D7D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C558A7-8784-40ED-AD31-D11AFC4DB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750F9-5D4F-4708-905B-BE45291CA94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BB6CE-D91B-4A31-BD49-C1CC9E89FEB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F1BE7-EE49-46EC-AEB4-40DD64680DC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10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0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E5D56-CC10-45C3-97A8-A529498E435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1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214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9A94F-E1D0-41C4-8D49-5528FD07CD5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258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0" name="PlaceHolder 1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A1E7F-61BC-4BA8-83C3-5B87FAF1BB5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700ae"/>
            </a:gs>
            <a:gs pos="100000">
              <a:srgbClr val="7301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0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50000">
                  <a:srgbClr val="7301cb"/>
                </a:gs>
                <a:gs pos="100000">
                  <a:srgbClr val="5700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7301cb"/>
                </a:gs>
                <a:gs pos="100000">
                  <a:srgbClr val="7000e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301cb"/>
                </a:gs>
                <a:gs pos="100000">
                  <a:srgbClr val="35005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301cb"/>
                </a:gs>
                <a:gs pos="100000">
                  <a:srgbClr val="35005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00061"/>
                </a:gs>
                <a:gs pos="100000">
                  <a:srgbClr val="5700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7301cb"/>
                </a:gs>
                <a:gs pos="100000">
                  <a:srgbClr val="5700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50000">
                  <a:srgbClr val="7301cb"/>
                </a:gs>
                <a:gs pos="100000">
                  <a:srgbClr val="5700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5c5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5c5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B067E-293E-4EA6-9AAB-85B7DD505E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700ae"/>
            </a:gs>
            <a:gs pos="100000">
              <a:srgbClr val="7301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50000">
                  <a:srgbClr val="7301cb"/>
                </a:gs>
                <a:gs pos="100000">
                  <a:srgbClr val="5700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7301cb"/>
                </a:gs>
                <a:gs pos="100000">
                  <a:srgbClr val="7000e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301cb"/>
                </a:gs>
                <a:gs pos="100000">
                  <a:srgbClr val="35005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301cb"/>
                </a:gs>
                <a:gs pos="100000">
                  <a:srgbClr val="35005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00061"/>
                </a:gs>
                <a:gs pos="100000">
                  <a:srgbClr val="5700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7301cb"/>
                </a:gs>
                <a:gs pos="100000">
                  <a:srgbClr val="5700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50000">
                  <a:srgbClr val="7301cb"/>
                </a:gs>
                <a:gs pos="100000">
                  <a:srgbClr val="5700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5c5ff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AA136-B8D6-4A37-847C-C6CD715C0C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49AB4-653E-4401-A391-2D7A2D8C08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 txBox="1"/>
          <p:nvPr/>
        </p:nvSpPr>
        <p:spPr>
          <a:xfrm>
            <a:off x="2362320" y="304920"/>
            <a:ext cx="47433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Sydnie"/>
              </a:rPr>
              <a:t>Parallel Family 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Sydnie"/>
              <a:ea typeface="Sydni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Sydnie"/>
              </a:rPr>
              <a:t>and the Odd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Sydnie"/>
              <a:ea typeface="Sydnie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6334200" y="6286680"/>
            <a:ext cx="28098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Garamond Premr Pro Smbd"/>
              </a:rPr>
              <a:t>Brittani Guer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Garamond Premr Pro Smbd"/>
              <a:ea typeface="Garamond Premr Pro Smbd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0" y="5619600"/>
            <a:ext cx="2209680" cy="123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Minion Pro"/>
              </a:rPr>
              <a:t>Period 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Minion Pro"/>
              <a:ea typeface="Minion Pr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Minion Pro"/>
              </a:rPr>
              <a:t>Mrs. Hopp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Minion Pro"/>
              <a:ea typeface="Minion Pro"/>
            </a:endParaRPr>
          </a:p>
        </p:txBody>
      </p:sp>
      <p:pic>
        <p:nvPicPr>
          <p:cNvPr id="463" name="" descr="rectangle"/>
          <p:cNvPicPr/>
          <p:nvPr/>
        </p:nvPicPr>
        <p:blipFill>
          <a:blip r:embed="rId1"/>
          <a:srcRect l="0" t="16024" r="4006" b="0"/>
          <a:stretch/>
        </p:blipFill>
        <p:spPr>
          <a:xfrm>
            <a:off x="5105520" y="1676520"/>
            <a:ext cx="1752480" cy="799920"/>
          </a:xfrm>
          <a:prstGeom prst="rect">
            <a:avLst/>
          </a:prstGeom>
          <a:ln w="9360">
            <a:solidFill>
              <a:srgbClr val="33cccc"/>
            </a:solidFill>
            <a:miter/>
          </a:ln>
        </p:spPr>
      </p:pic>
      <p:sp>
        <p:nvSpPr>
          <p:cNvPr id="464" name=""/>
          <p:cNvSpPr/>
          <p:nvPr/>
        </p:nvSpPr>
        <p:spPr>
          <a:xfrm>
            <a:off x="4419720" y="5715000"/>
            <a:ext cx="761760" cy="1143000"/>
          </a:xfrm>
          <a:prstGeom prst="flowChartDecision">
            <a:avLst/>
          </a:prstGeom>
          <a:solidFill>
            <a:srgbClr val="00ffcc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638680" y="4191120"/>
            <a:ext cx="914400" cy="1447560"/>
          </a:xfrm>
          <a:prstGeom prst="flowChartManualInput">
            <a:avLst/>
          </a:prstGeom>
          <a:solidFill>
            <a:srgbClr val="ffcc00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71800" y="1676520"/>
            <a:ext cx="914400" cy="838080"/>
          </a:xfrm>
          <a:prstGeom prst="flowChartProcess">
            <a:avLst/>
          </a:prstGeom>
          <a:solidFill>
            <a:srgbClr val="ff33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743200" y="3048120"/>
            <a:ext cx="1219320" cy="914400"/>
          </a:xfrm>
          <a:prstGeom prst="flowChartInputOutput">
            <a:avLst/>
          </a:prstGeom>
          <a:solidFill>
            <a:srgbClr val="99cc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rot="10800000">
            <a:off x="2209320" y="4648320"/>
            <a:ext cx="2057400" cy="914400"/>
          </a:xfrm>
          <a:prstGeom prst="flowChartManualOperation">
            <a:avLst/>
          </a:prstGeom>
          <a:solidFill>
            <a:srgbClr val="ff3399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05740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495680" y="20574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572000" y="3124080"/>
            <a:ext cx="2666880" cy="685800"/>
          </a:xfrm>
          <a:prstGeom prst="flowChartInputOutput">
            <a:avLst/>
          </a:prstGeom>
          <a:solidFill>
            <a:srgbClr val="99cc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3504960" y="2819520"/>
            <a:ext cx="99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495680" y="281952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562720" y="28195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791320" y="28195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505320" y="28195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809880" y="3505320"/>
            <a:ext cx="1067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267080" y="350532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3505320" y="411480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267080" y="4114800"/>
            <a:ext cx="1676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505320" y="41148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943600" y="41148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038480" y="50292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cc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 txBox="1"/>
          <p:nvPr/>
        </p:nvSpPr>
        <p:spPr>
          <a:xfrm>
            <a:off x="1600200" y="457200"/>
            <a:ext cx="7010280" cy="135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cccc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no Pro Display"/>
              </a:rPr>
              <a:t>Squares, Rectangle, and Rhombus</a:t>
            </a:r>
            <a:endParaRPr b="0" lang="en-US" sz="1800" spc="1" strike="noStrike">
              <a:ln w="12600">
                <a:solidFill>
                  <a:srgbClr val="33cccc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no Pro Display"/>
              <a:ea typeface="Arno Pro Display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/>
          </p:nvPr>
        </p:nvSpPr>
        <p:spPr>
          <a:xfrm>
            <a:off x="1218960" y="2514600"/>
            <a:ext cx="7010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quares, rectangles, parallelogram, and rhombuses  have four equal sides which make them have two sets of parallel li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quare and rectangle have 4 equal angles that equal 90 degrees in meas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rhombus is a special case of the parallelogra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295280" y="5791320"/>
            <a:ext cx="914400" cy="838080"/>
          </a:xfrm>
          <a:prstGeom prst="flowChartProcess">
            <a:avLst/>
          </a:prstGeom>
          <a:solidFill>
            <a:srgbClr val="99cc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0" y="5715000"/>
            <a:ext cx="1219320" cy="914400"/>
          </a:xfrm>
          <a:prstGeom prst="flowChartInputOutput">
            <a:avLst/>
          </a:prstGeom>
          <a:solidFill>
            <a:srgbClr val="99cc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657600" y="5867280"/>
            <a:ext cx="2057400" cy="762120"/>
          </a:xfrm>
          <a:prstGeom prst="flowChartProcess">
            <a:avLst/>
          </a:prstGeom>
          <a:solidFill>
            <a:srgbClr val="0066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2514600" y="1752480"/>
            <a:ext cx="50292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arallelogram</a:t>
            </a:r>
            <a:endParaRPr b="0" lang="en-US" sz="1800" spc="1" strike="noStrike">
              <a:ln w="9360">
                <a:solidFill>
                  <a:srgbClr val="33cccc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90" name=""/>
          <p:cNvSpPr/>
          <p:nvPr/>
        </p:nvSpPr>
        <p:spPr>
          <a:xfrm>
            <a:off x="3505320" y="5105520"/>
            <a:ext cx="2666880" cy="685800"/>
          </a:xfrm>
          <a:prstGeom prst="flowChartInputOutput">
            <a:avLst/>
          </a:prstGeom>
          <a:solidFill>
            <a:srgbClr val="99cc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 txBox="1"/>
          <p:nvPr/>
        </p:nvSpPr>
        <p:spPr>
          <a:xfrm>
            <a:off x="838080" y="762120"/>
            <a:ext cx="7696440" cy="2287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adley Hand ITC"/>
              </a:rPr>
              <a:t>Isosceles Trapezoid and Trapezoi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adley Hand ITC"/>
              <a:ea typeface="Bradley Hand ITC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914400" y="5181480"/>
            <a:ext cx="7696080" cy="2287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7243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adley Hand ITC"/>
              </a:rPr>
              <a:t>Isosceles Trapezoid and Trapezoi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adley Hand ITC"/>
              <a:ea typeface="Bradley Hand ITC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447560" y="182880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sceles Trapezoid and the Trapezoid have one set of parallel lin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parallel sides of a Trapezoid are called bas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trapezoid the parallel sides may not be congruent in length but they are still paralle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"/>
          <p:cNvSpPr/>
          <p:nvPr/>
        </p:nvSpPr>
        <p:spPr>
          <a:xfrm rot="10800000">
            <a:off x="2666520" y="5943600"/>
            <a:ext cx="2057400" cy="914400"/>
          </a:xfrm>
          <a:prstGeom prst="flowChartManualOperation">
            <a:avLst/>
          </a:prstGeom>
          <a:solidFill>
            <a:srgbClr val="e7ed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334120" y="5410080"/>
            <a:ext cx="914400" cy="1447920"/>
          </a:xfrm>
          <a:prstGeom prst="flowChartManualInput">
            <a:avLst/>
          </a:prstGeom>
          <a:solidFill>
            <a:srgbClr val="000000"/>
          </a:solidFill>
          <a:ln w="9360">
            <a:solidFill>
              <a:srgbClr val="d0da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Times New Roman"/>
              </a:rPr>
              <a:t>The kite has no parallel sides but it is still a quadrilater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Times New Roman"/>
              </a:rPr>
              <a:t>The kite has two pairs of consecutive and congruent sid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2590920" y="533520"/>
            <a:ext cx="428616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Hobo Std"/>
              </a:rPr>
              <a:t>The Odd Bal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Hobo Std"/>
              <a:ea typeface="Hobo Std"/>
            </a:endParaRPr>
          </a:p>
        </p:txBody>
      </p:sp>
      <p:sp>
        <p:nvSpPr>
          <p:cNvPr id="498" name=""/>
          <p:cNvSpPr/>
          <p:nvPr/>
        </p:nvSpPr>
        <p:spPr>
          <a:xfrm>
            <a:off x="4114800" y="3886200"/>
            <a:ext cx="762120" cy="114300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99f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1295280" y="2133720"/>
            <a:ext cx="5639040" cy="196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iddyup Std"/>
              </a:rPr>
              <a:t>The End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iddyup Std"/>
              <a:ea typeface="Giddyup St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2T20:09:59Z</dcterms:created>
  <dc:creator>LAURIE GUERRE</dc:creator>
  <dc:description/>
  <dc:language>en-US</dc:language>
  <cp:lastModifiedBy>LAURIE GUERRE</cp:lastModifiedBy>
  <dcterms:modified xsi:type="dcterms:W3CDTF">2008-05-12T20:53:14Z</dcterms:modified>
  <cp:revision>2</cp:revision>
  <dc:subject/>
  <dc:title>Slide 1</dc:title>
</cp:coreProperties>
</file>